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680-C5BE-4745-B133-6CA87CC7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EF5-9EE4-4DFD-AFEC-1B40330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6D6-7F28-499C-8A8D-16D2202D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59B-B81A-4C54-8AB3-F9388610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2A5-8784-4F9A-807D-1FA8F1C0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D2D-FC10-49E1-9D95-CC5A3677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5ACD-66F3-4261-9354-0A8C5A3F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F27-0DEB-4083-A3E3-B3D07BD4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CA8-9478-4F13-A974-3AFE6A9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C06-CBE4-4683-BF78-770167E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4AA-5C31-41B8-941E-C44923F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E71-91B7-4ED8-9C8F-A5D923E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C13-2430-4D61-8407-29854FE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AFAC-F2B0-495F-BDCF-5F10E6C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5821-D7CE-4EF6-B7D2-88B1B93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521-82D3-4239-824A-4F779630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251C-505E-45B5-9F1A-A8C5B7F7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D0-D10F-45D1-B498-EC53635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D35-199A-4E7E-A0B2-61A4C78E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14A-6F90-4090-86B0-F753D468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8A1-2E5A-48BB-B166-DAB1D62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0C4-16C6-4641-BBAB-7E8394A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1BF-1B64-4402-988B-EADA8BA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8FF-A4AB-43A7-ABB7-1F637D7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0D6-A582-4DD2-9A1D-5F829E7327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7B9-B61B-4197-BE32-74D1A0F508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merica’s Manifest Destiny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1835-1850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xican-American Wa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846-1848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6" descr="map of Major Battles and American Troop Movements during Mexican War"/>
          <p:cNvPicPr/>
          <p:nvPr/>
        </p:nvPicPr>
        <p:blipFill>
          <a:blip r:embed="rId1"/>
          <a:stretch/>
        </p:blipFill>
        <p:spPr>
          <a:xfrm>
            <a:off x="1219320" y="1428840"/>
            <a:ext cx="7238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aty of Guadalupe Hidal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6" descr="usland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Garamond"/>
              </a:rPr>
              <a:t>It is our manifest destiny to control the land from sea to shining sea –in this great experiment of liberty…New York Journalist,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John O’Sulliva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Picture 6" descr="external image manifest%20destiny.jpg"/>
          <p:cNvPicPr/>
          <p:nvPr/>
        </p:nvPicPr>
        <p:blipFill>
          <a:blip r:embed="rId1"/>
          <a:stretch/>
        </p:blipFill>
        <p:spPr>
          <a:xfrm>
            <a:off x="304920" y="973080"/>
            <a:ext cx="8458200" cy="5199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959560" y="61326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ing by: John Gast, circa 1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ifest Destiny in the early 1800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s with Lewis and Clark Expedition (18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egon Trail ---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most feasible way to travel over m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nta Fe Tr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mon 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ifornia Gold Ru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as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xican-American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stward Expan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ife,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pe religious pers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slav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business, cities, states, farms, rail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mon settlement in Ut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ng Tow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tlement of Califor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ve Americans loss of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ortant Ter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ans: Anglo Americans who immi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janos: Native born Tex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xico gains independence from Spain in 1821 (Monroe secretly aided the rebels) &amp;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ncourages immigration to Tex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most famous empresario: Stephen Aust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ap land and tax exe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29: Mexican gov’t abolishes sla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30s, Santa Anna – president/dictator of Mexico ----- Problems Escalate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xas Independ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5" descr="texas-revolution-map"/>
          <p:cNvPicPr/>
          <p:nvPr/>
        </p:nvPicPr>
        <p:blipFill>
          <a:blip r:embed="rId1"/>
          <a:stretch/>
        </p:blipFill>
        <p:spPr>
          <a:xfrm>
            <a:off x="1371600" y="1290600"/>
            <a:ext cx="6477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ortant Ter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nta Anna imposes a more autocratic and conservative regime --- limiting the powers of the individual Mexican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36, American/Mexican settlers in Texas declared indepen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mo: William Travis, James Bowie, Davey Crocke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 Houston – commanding general of TX a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esident of Texas immediately sough annex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ident Jackson ----sectional controversy and possible war with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45 – Texas becomes a slav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4, 40, or fight --- Oregon, 18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orming of the Alam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5" descr="Mvc-SOTA1"/>
          <p:cNvPicPr/>
          <p:nvPr/>
        </p:nvPicPr>
        <p:blipFill>
          <a:blip r:embed="rId1"/>
          <a:stretch/>
        </p:blipFill>
        <p:spPr>
          <a:xfrm>
            <a:off x="609480" y="915840"/>
            <a:ext cx="79250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rrender at San Jaci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5" descr="Texas%20Revolution%20End"/>
          <p:cNvPicPr/>
          <p:nvPr/>
        </p:nvPicPr>
        <p:blipFill>
          <a:blip r:embed="rId1"/>
          <a:stretch/>
        </p:blipFill>
        <p:spPr>
          <a:xfrm>
            <a:off x="685800" y="1484280"/>
            <a:ext cx="81532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2:08:40Z</dcterms:created>
  <dc:creator>udsd</dc:creator>
  <dc:description/>
  <dc:language>en-US</dc:language>
  <cp:lastModifiedBy>Danielle McNamara</cp:lastModifiedBy>
  <dcterms:modified xsi:type="dcterms:W3CDTF">2014-10-24T14:37:04Z</dcterms:modified>
  <cp:revision>10</cp:revision>
  <dc:subject/>
  <dc:title>Our Manifest Destiny</dc:title>
</cp:coreProperties>
</file>